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move the slide</a:t>
            </a:r>
            <a:endParaRPr b="0" lang="en-US" sz="4600" spc="-1" strike="noStrike">
              <a:solidFill>
                <a:srgbClr val="ffffff"/>
              </a:solidFill>
              <a:latin typeface="Arial"/>
            </a:endParaRPr>
          </a:p>
        </p:txBody>
      </p:sp>
      <p:sp>
        <p:nvSpPr>
          <p:cNvPr id="89"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CD3F2-0A0D-4A3F-A1F1-DEB9C83F71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81160" y="696960"/>
            <a:ext cx="4648320" cy="3486240"/>
          </a:xfrm>
          <a:prstGeom prst="rect">
            <a:avLst/>
          </a:prstGeom>
          <a:ln w="0">
            <a:noFill/>
          </a:ln>
        </p:spPr>
      </p:sp>
      <p:sp>
        <p:nvSpPr>
          <p:cNvPr id="10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ant to introduce you to the “potato chip of the sea,” a pteropod, a swimming snail just half an inch across.   These tiny animals are a big part of the marine food web:  in fact, many fish that we eat, like salmon, rely on pteropods as their main meal ticket.  Salmon and other fishes in the ocean provide about 25% of the protein we eat worldwide (Drivers of Change: Oceans), so anything that happens to these little pteropods can travel up the chain to us.  We have an opportunity to make sure that our marine ecosystems, from the big salmon to the tiny pteropods, remain full of life for generations to come.  We will see the “potato chip of the sea” again so don’t forget him…”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ne Food Web Image Source:  http://www.mos.org/oceans/life/web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teropod Image Source:  NOAA    http://www.pmel.noaa.gov/co2/file/Pterop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6D91B-7284-412E-83E3-89CF8FD16C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81160" y="696960"/>
            <a:ext cx="4648320" cy="3486240"/>
          </a:xfrm>
          <a:prstGeom prst="rect">
            <a:avLst/>
          </a:prstGeom>
          <a:ln w="0">
            <a:noFill/>
          </a:ln>
        </p:spPr>
      </p:sp>
      <p:sp>
        <p:nvSpPr>
          <p:cNvPr id="10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ant to introduce you to the “potato chip of the sea,” a pteropod, a swimming snail just half an inch across.   These tiny animals are a big part of the marine food web:  in fact, many fish that we eat, like salmon, rely on pteropods as their main meal ticket.  Salmon and other fishes in the ocean provide about 25% of the protein we eat worldwide (Drivers of Change: Oceans), so anything that happens to these little pteropods can travel up the chain to us.  We have an opportunity to make sure that our marine ecosystems, from the big salmon to the tiny pteropods, remain full of life for generations to come.  We will see the “potato chip of the sea” again so don’t forget him…”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ne Food Web Image Source:  http://www.mos.org/oceans/life/web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teropod Image Source:  NOAA    http://www.pmel.noaa.gov/co2/file/Pterop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179E4-4BEB-4AB6-813D-79643918D1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81160" y="696960"/>
            <a:ext cx="4648320" cy="3486240"/>
          </a:xfrm>
          <a:prstGeom prst="rect">
            <a:avLst/>
          </a:prstGeom>
          <a:ln w="0">
            <a:noFill/>
          </a:ln>
        </p:spPr>
      </p:sp>
      <p:sp>
        <p:nvSpPr>
          <p:cNvPr id="10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ant to introduce you to the “potato chip of the sea,” a pteropod, a swimming snail just half an inch across.   These tiny animals are a big part of the marine food web:  in fact, many fish that we eat, like salmon, rely on pteropods as their main meal ticket.  Salmon and other fishes in the ocean provide about 25% of the protein we eat worldwide (Drivers of Change: Oceans), so anything that happens to these little pteropods can travel up the chain to us.  We have an opportunity to make sure that our marine ecosystems, from the big salmon to the tiny pteropods, remain full of life for generations to come.  We will see the “potato chip of the sea” again so don’t forget him…”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ne Food Web Image Source:  http://www.mos.org/oceans/life/web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teropod Image Source:  NOAA    http://www.pmel.noaa.gov/co2/file/Pterop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55243-91F4-4C26-9E51-487B8104EF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B051C0-AA26-4270-A745-661824F366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1216F-5D3C-4A00-A65E-5329482F5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D8280E-0801-4C67-801A-C86C68818F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C263E4-003E-4C21-81A3-353AA5BA3B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AC93D2-0BC4-4D50-B8B3-EE2A8A7078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C3C69A-B1D6-4721-9F60-5826FAFE67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F354CC-6B11-4958-816F-959BECE950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2E9137-4F12-4644-8394-0C63D35BE5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93C702-24B9-4488-ABF7-8AD8315C63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4812FF-4D55-479B-906C-F145AA39F3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4C437-6191-4966-AE78-17EB5C7B88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132F7-FD8B-418D-B6DF-2B0CBA2D2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D62E5-8F9F-4FB0-A26E-CB24D759ED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272F11-ABC8-4443-93E7-D58B6445F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9AEB88-4F14-4D14-92B4-FBC60A704F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BDAF61-3BC6-4B6C-BCEF-B66A0D8DE9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80B0ED-58C8-4804-B8AD-1DE2D570E1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96256-0DE5-4E63-82B9-D4C2952B1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21C70-20E6-4044-829D-E26BBC79E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47E1B-D12B-48B3-8E19-ECDCDD2A5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760EC-83D3-4D75-84BC-FF880586C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66F3C-21F4-4CB7-AD31-9D1352995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18E49-529E-4919-B5AE-6F530AEE3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9DAC7-EEA3-4D03-8FD5-F1451BA310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A466A-96E9-43BF-AFF6-BA676288C8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4"/>
          <p:cNvSpPr/>
          <p:nvPr/>
        </p:nvSpPr>
        <p:spPr>
          <a:xfrm>
            <a:off x="0" y="0"/>
            <a:ext cx="9144000" cy="6858000"/>
          </a:xfrm>
          <a:prstGeom prst="rect">
            <a:avLst/>
          </a:prstGeom>
          <a:solidFill>
            <a:srgbClr val="0093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4"/>
          <p:cNvSpPr/>
          <p:nvPr/>
        </p:nvSpPr>
        <p:spPr>
          <a:xfrm>
            <a:off x="0" y="0"/>
            <a:ext cx="9144000" cy="6858000"/>
          </a:xfrm>
          <a:prstGeom prst="rect">
            <a:avLst/>
          </a:prstGeom>
          <a:solidFill>
            <a:srgbClr val="0093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Rectangle 4"/>
          <p:cNvSpPr/>
          <p:nvPr/>
        </p:nvSpPr>
        <p:spPr>
          <a:xfrm>
            <a:off x="0" y="0"/>
            <a:ext cx="9144000" cy="6858000"/>
          </a:xfrm>
          <a:prstGeom prst="rect">
            <a:avLst/>
          </a:prstGeom>
          <a:solidFill>
            <a:srgbClr val="0093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E9E36-9AD9-4EAB-8B68-3BC9535973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youtu.be/kHM3lWmP6GE" TargetMode="External"/><Relationship Id="rId3" Type="http://schemas.openxmlformats.org/officeDocument/2006/relationships/hyperlink" Target="https://youtu.be/uBu6DxnkIu0" TargetMode="External"/><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
          <p:cNvPicPr/>
          <p:nvPr/>
        </p:nvPicPr>
        <p:blipFill>
          <a:blip r:embed="rId1"/>
          <a:stretch/>
        </p:blipFill>
        <p:spPr>
          <a:xfrm>
            <a:off x="914400" y="533520"/>
            <a:ext cx="2209680" cy="2511360"/>
          </a:xfrm>
          <a:prstGeom prst="rect">
            <a:avLst/>
          </a:prstGeom>
          <a:ln w="0">
            <a:noFill/>
          </a:ln>
        </p:spPr>
      </p:pic>
      <p:sp>
        <p:nvSpPr>
          <p:cNvPr id="93" name="TextBox 1"/>
          <p:cNvSpPr/>
          <p:nvPr/>
        </p:nvSpPr>
        <p:spPr>
          <a:xfrm>
            <a:off x="3962520" y="533520"/>
            <a:ext cx="48560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ot Pteropod?</a:t>
            </a:r>
            <a:endParaRPr b="0" lang="en-US" sz="4400" spc="-1" strike="noStrike">
              <a:solidFill>
                <a:srgbClr val="000000"/>
              </a:solidFill>
              <a:latin typeface="Arial"/>
            </a:endParaRPr>
          </a:p>
        </p:txBody>
      </p:sp>
      <p:sp>
        <p:nvSpPr>
          <p:cNvPr id="94" name="TextBox 6"/>
          <p:cNvSpPr/>
          <p:nvPr/>
        </p:nvSpPr>
        <p:spPr>
          <a:xfrm>
            <a:off x="4303800" y="609480"/>
            <a:ext cx="4876560" cy="4848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a:t>
            </a:r>
            <a:r>
              <a:rPr b="0" lang="en-US" sz="2400" spc="-1" strike="noStrike">
                <a:solidFill>
                  <a:srgbClr val="ffffff"/>
                </a:solidFill>
                <a:latin typeface="Arial"/>
              </a:rPr>
              <a:t>Potato chip of the sea</a:t>
            </a:r>
            <a:r>
              <a:rPr b="0" lang="ja-JP" sz="2400" spc="-1" strike="noStrike">
                <a:solidFill>
                  <a:srgbClr val="ffffff"/>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big part of the marine food web (zooplankt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mon and other fishes rely on pterpods as their food sourc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mon and other fishes in the ocean provide about 25% of the protein we eat worldwide</a:t>
            </a:r>
            <a:endParaRPr b="0" lang="en-US" sz="2400" spc="-1" strike="noStrike">
              <a:solidFill>
                <a:srgbClr val="000000"/>
              </a:solidFill>
              <a:latin typeface="Arial"/>
            </a:endParaRPr>
          </a:p>
        </p:txBody>
      </p:sp>
      <p:pic>
        <p:nvPicPr>
          <p:cNvPr id="95" name="Picture 4" descr="Arctic_marine_food_blog-1.jpg"/>
          <p:cNvPicPr/>
          <p:nvPr/>
        </p:nvPicPr>
        <p:blipFill>
          <a:blip r:embed="rId2"/>
          <a:stretch/>
        </p:blipFill>
        <p:spPr>
          <a:xfrm>
            <a:off x="550800" y="3538440"/>
            <a:ext cx="3564000" cy="2862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Box 8"/>
          <p:cNvSpPr/>
          <p:nvPr/>
        </p:nvSpPr>
        <p:spPr>
          <a:xfrm>
            <a:off x="1219320" y="868320"/>
            <a:ext cx="7264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teropods are experiencing shell dissolution! </a:t>
            </a:r>
            <a:endParaRPr b="0" lang="en-US" sz="2400" spc="-1" strike="noStrike">
              <a:solidFill>
                <a:srgbClr val="000000"/>
              </a:solidFill>
              <a:latin typeface="Arial"/>
            </a:endParaRPr>
          </a:p>
        </p:txBody>
      </p:sp>
      <p:sp>
        <p:nvSpPr>
          <p:cNvPr id="97" name="TextBox 1"/>
          <p:cNvSpPr/>
          <p:nvPr/>
        </p:nvSpPr>
        <p:spPr>
          <a:xfrm>
            <a:off x="1447920" y="65160"/>
            <a:ext cx="56131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teropods in Danger!</a:t>
            </a:r>
            <a:endParaRPr b="0" lang="en-US" sz="4400" spc="-1" strike="noStrike">
              <a:solidFill>
                <a:srgbClr val="000000"/>
              </a:solidFill>
              <a:latin typeface="Arial"/>
            </a:endParaRPr>
          </a:p>
        </p:txBody>
      </p:sp>
      <p:pic>
        <p:nvPicPr>
          <p:cNvPr id="98" name="Picture 10" descr="https://lh4.googleusercontent.com/2yhnv2J86Q59WkpPrpgZWJnOwDs386aVwMZlmDxmTjuCZaNLg02nOQZDfbz13uDdDRo_Kjqkkjk2Cqzas_VQppqbrOHykvheLnXhpDE7gUzLgJ2Slhc-gnC7yM3aJsIysySuTNhP"/>
          <p:cNvPicPr/>
          <p:nvPr/>
        </p:nvPicPr>
        <p:blipFill>
          <a:blip r:embed="rId1"/>
          <a:stretch/>
        </p:blipFill>
        <p:spPr>
          <a:xfrm>
            <a:off x="1905120" y="2133720"/>
            <a:ext cx="4876560" cy="3314520"/>
          </a:xfrm>
          <a:prstGeom prst="rect">
            <a:avLst/>
          </a:prstGeom>
          <a:ln w="0">
            <a:noFill/>
          </a:ln>
        </p:spPr>
      </p:pic>
      <p:sp>
        <p:nvSpPr>
          <p:cNvPr id="99" name="TextBox 5"/>
          <p:cNvSpPr/>
          <p:nvPr/>
        </p:nvSpPr>
        <p:spPr>
          <a:xfrm>
            <a:off x="76320" y="5943600"/>
            <a:ext cx="4572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Healthy Pteropod Swimm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Dissolving Pteropod Swimm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1"/>
          <p:cNvSpPr/>
          <p:nvPr/>
        </p:nvSpPr>
        <p:spPr>
          <a:xfrm>
            <a:off x="1371600" y="304920"/>
            <a:ext cx="66294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is this happening?</a:t>
            </a:r>
            <a:endParaRPr b="0" lang="en-US" sz="4400" spc="-1" strike="noStrike">
              <a:solidFill>
                <a:srgbClr val="000000"/>
              </a:solidFill>
              <a:latin typeface="Arial"/>
            </a:endParaRPr>
          </a:p>
        </p:txBody>
      </p:sp>
      <p:graphicFrame>
        <p:nvGraphicFramePr>
          <p:cNvPr id="101" name=""/>
          <p:cNvGraphicFramePr/>
          <p:nvPr/>
        </p:nvGraphicFramePr>
        <p:xfrm>
          <a:off x="1523880" y="1397160"/>
          <a:ext cx="6477120" cy="3555720"/>
        </p:xfrm>
        <a:graphic>
          <a:graphicData uri="http://schemas.openxmlformats.org/drawingml/2006/table">
            <a:tbl>
              <a:tblPr/>
              <a:tblGrid>
                <a:gridCol w="6477120"/>
              </a:tblGrid>
              <a:tr h="55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tential cause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001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Weather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Increased tem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Increased CO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Over Consump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pH decreas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  Disea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 Increased ocean salinity</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2T17:40:39Z</dcterms:created>
  <dc:creator>NOS NOS</dc:creator>
  <dc:description/>
  <dc:language>en-US</dc:language>
  <cp:lastModifiedBy>Elliott, Amity Kaelynn</cp:lastModifiedBy>
  <cp:lastPrinted>2014-05-07T00:13:30Z</cp:lastPrinted>
  <dcterms:modified xsi:type="dcterms:W3CDTF">2018-01-19T00:22:04Z</dcterms:modified>
  <cp:revision>577</cp:revision>
  <dc:subject/>
  <dc:title>PowerPoint Presentation</dc:title>
</cp:coreProperties>
</file>