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4958-E87A-477D-BA25-0E445AAFF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3F28-7272-45E3-B439-7D370B900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296E-B555-412E-AF02-8943DE94D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0F15-3192-4915-BEF3-792D056CE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900A7-2943-4957-A332-AEC8E90F9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557F-8814-4348-BC8C-8B789D769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6E97C-3166-445D-A49E-08AEDF67C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9AABC-C05D-42E6-8AE1-F11AA71EB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3AF82-8475-4F49-9F24-B48B7E3E7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CF8AF-C675-461D-B42E-2CFD9C827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4D740-65B6-4C07-B6B8-919E474E2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463FD-54E0-4B81-808C-4C1AE85D8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03BC1-ECC8-42EA-830D-CC9074AD7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979F0-BDD7-4002-B542-D20D8AAE4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1ACB1-94EF-4658-B32E-D5A9410D5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EFCC-3115-4A06-8FC0-F7B44218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431B5-5772-4E63-B8FB-32D153B0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4D26D-EB65-4C0A-BE15-12CA4DB18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98873-9ECB-404A-B991-89C72D3A1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9775E-246F-4B83-99C9-C1F096203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D6C0F-2091-4487-B7D0-4216B4C8A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C950-C2A6-499B-A389-81765248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E8965-8292-4F42-B976-CED10C8EE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585F-ABE3-4100-B0F3-7070547DC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B3AA-E4DB-44D1-9DF4-047888AF2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A240-EC88-41F0-9B9B-0CA9F3F4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CF9D-7774-46FC-921B-62F47034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3D5D-6C6C-4C82-9FC5-CBDC4C9F9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476F-3751-4693-B5CD-24699126D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E890-6F2A-4BD4-8D15-8211D77F8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youtu.be/kHM3lWmP6GE" TargetMode="External"/><Relationship Id="rId3" Type="http://schemas.openxmlformats.org/officeDocument/2006/relationships/hyperlink" Target="https://youtu.be/uBu6DxnkIu0" TargetMode="External"/><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914400" y="533520"/>
            <a:ext cx="2209680" cy="2511360"/>
          </a:xfrm>
          <a:prstGeom prst="rect">
            <a:avLst/>
          </a:prstGeom>
          <a:ln w="0">
            <a:noFill/>
          </a:ln>
        </p:spPr>
      </p:pic>
      <p:sp>
        <p:nvSpPr>
          <p:cNvPr id="93"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94"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 (zooplankt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pic>
        <p:nvPicPr>
          <p:cNvPr id="95" name="Picture 4" descr="Arctic_marine_food_blog-1.jpg"/>
          <p:cNvPicPr/>
          <p:nvPr/>
        </p:nvPicPr>
        <p:blipFill>
          <a:blip r:embed="rId2"/>
          <a:stretch/>
        </p:blipFill>
        <p:spPr>
          <a:xfrm>
            <a:off x="550800" y="3538440"/>
            <a:ext cx="3564000" cy="28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8"/>
          <p:cNvSpPr/>
          <p:nvPr/>
        </p:nvSpPr>
        <p:spPr>
          <a:xfrm>
            <a:off x="1219320" y="868320"/>
            <a:ext cx="726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eropods are experiencing shell dissolution! </a:t>
            </a:r>
            <a:endParaRPr b="0" lang="en-US" sz="2400" spc="-1" strike="noStrike">
              <a:solidFill>
                <a:srgbClr val="000000"/>
              </a:solidFill>
              <a:latin typeface="Arial"/>
            </a:endParaRPr>
          </a:p>
        </p:txBody>
      </p:sp>
      <p:sp>
        <p:nvSpPr>
          <p:cNvPr id="97" name="TextBox 1"/>
          <p:cNvSpPr/>
          <p:nvPr/>
        </p:nvSpPr>
        <p:spPr>
          <a:xfrm>
            <a:off x="1447920" y="65160"/>
            <a:ext cx="5613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teropods in Danger!</a:t>
            </a:r>
            <a:endParaRPr b="0" lang="en-US" sz="4400" spc="-1" strike="noStrike">
              <a:solidFill>
                <a:srgbClr val="000000"/>
              </a:solidFill>
              <a:latin typeface="Arial"/>
            </a:endParaRPr>
          </a:p>
        </p:txBody>
      </p:sp>
      <p:pic>
        <p:nvPicPr>
          <p:cNvPr id="98" name="Picture 10" descr="https://lh4.googleusercontent.com/2yhnv2J86Q59WkpPrpgZWJnOwDs386aVwMZlmDxmTjuCZaNLg02nOQZDfbz13uDdDRo_Kjqkkjk2Cqzas_VQppqbrOHykvheLnXhpDE7gUzLgJ2Slhc-gnC7yM3aJsIysySuTNhP"/>
          <p:cNvPicPr/>
          <p:nvPr/>
        </p:nvPicPr>
        <p:blipFill>
          <a:blip r:embed="rId1"/>
          <a:stretch/>
        </p:blipFill>
        <p:spPr>
          <a:xfrm>
            <a:off x="1905120" y="2133720"/>
            <a:ext cx="4876560" cy="3314520"/>
          </a:xfrm>
          <a:prstGeom prst="rect">
            <a:avLst/>
          </a:prstGeom>
          <a:ln w="0">
            <a:noFill/>
          </a:ln>
        </p:spPr>
      </p:pic>
      <p:sp>
        <p:nvSpPr>
          <p:cNvPr id="99" name="TextBox 5"/>
          <p:cNvSpPr/>
          <p:nvPr/>
        </p:nvSpPr>
        <p:spPr>
          <a:xfrm>
            <a:off x="76320" y="594360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ealthy Pteropod Swimm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Dissolving Pteropod Swimm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371600" y="304920"/>
            <a:ext cx="66294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is this happening?</a:t>
            </a:r>
            <a:endParaRPr b="0" lang="en-US" sz="4400" spc="-1" strike="noStrike">
              <a:solidFill>
                <a:srgbClr val="000000"/>
              </a:solidFill>
              <a:latin typeface="Arial"/>
            </a:endParaRPr>
          </a:p>
        </p:txBody>
      </p:sp>
      <p:graphicFrame>
        <p:nvGraphicFramePr>
          <p:cNvPr id="101" name=""/>
          <p:cNvGraphicFramePr/>
          <p:nvPr/>
        </p:nvGraphicFramePr>
        <p:xfrm>
          <a:off x="1523880" y="1397160"/>
          <a:ext cx="6477120" cy="3555720"/>
        </p:xfrm>
        <a:graphic>
          <a:graphicData uri="http://schemas.openxmlformats.org/drawingml/2006/table">
            <a:tbl>
              <a:tblPr/>
              <a:tblGrid>
                <a:gridCol w="6477120"/>
              </a:tblGrid>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caus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0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ather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creased te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creased CO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Over Consum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pH decrea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Dise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Increased ocean salin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Elliott, Amity Kaelynn</cp:lastModifiedBy>
  <cp:lastPrinted>2014-05-07T00:13:30Z</cp:lastPrinted>
  <dcterms:modified xsi:type="dcterms:W3CDTF">2018-01-19T00:22:04Z</dcterms:modified>
  <cp:revision>577</cp:revision>
  <dc:subject/>
  <dc:title>PowerPoint Presentation</dc:title>
</cp:coreProperties>
</file>