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64FF-0465-44D2-B157-FAA7E5923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eawayblog.blogspot.com/2008/04/lonely-pengui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anpop.com/clubs/global-warming-prevention/images/33210735/title/penguins-ph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BE9E-0D38-49E2-91C4-4313A161D7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9313-C412-4A89-A97F-0B8D90769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BC2B-B773-46DB-94BE-3F635C99E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ime.com/time/photogallery/0,29307,1938690,0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E2D-4721-4950-9B80-693BB2A73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6F2-BCA5-4EF3-8636-9308AA29BF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travelvenu.com/top-5-family-tourist-attractions-in-cape-tow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 on Boulder’s Beach penguins (optional): http://www.youtube.com/watch?v=mFd4Ibqi3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BCD-FDF5-49A9-AA13-8F9FD7EFF7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60D1-EB9A-48CD-9A03-92863F84AC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doublexposure.net/edu_valdez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8563-2C98-451E-B2E6-8DE8D0F21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anpop.com/clubs/global-warming-prevention/images/33281199/title/ten-signs-global-warming-pho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4A07-099D-4F1D-B9A6-C47ABA673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for this video: https://www.youtube.com/watch?v=oJAbATJCu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videos (to show while penguin ice cubes are mel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guins and global warming: 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ttp://vimeo.com/119533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Penguins are melting: http://www.youtube.com/watch?v=5JRO8UpFSd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BC Link (Innocent Victims): http://www.youtube.com/watch?v=wCwPHioC6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guin in a Pickle: http://www.youtube.com/watch?v=HO4UBvxE56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B3B6-9F16-4B7B-A3E5-8F7AEB379F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 credi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book3000.com/National-Geographic--March-2009_27114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F0F1-A825-4495-BD3C-0BB54D6A6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29DD-43D4-486D-921E-550047E05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A851-7D80-48E5-AAD9-ED66AB3F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155-CBF5-4383-AD23-975D5B02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34E1-8ABE-440D-90F6-A647BEA7C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394-0EBB-42AC-8011-9C76C28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EA1-7597-43AF-AA53-B0B6EE9D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43B-E779-4CC2-A801-DFF9C427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B8D-BDC7-4D6D-9052-42E449C1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828-767A-4A76-AB0D-DA6F285E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6B70-C38F-4D50-A816-7FAFF0B2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6A6-FD64-4FCF-B92E-7C7A4784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272-0A0E-49CA-AEF0-CF3EEDDD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6507-7BBE-46CC-90B9-B8A0C904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AF8E-D9D2-4E79-9D35-F4C4872EB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JAbATJCugs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4600" y="124920"/>
            <a:ext cx="5959440" cy="117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gineers, what is wrong he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Penguins-global-warming-prevention-33210735-600-400.jpg"/>
          <p:cNvPicPr/>
          <p:nvPr/>
        </p:nvPicPr>
        <p:blipFill>
          <a:blip r:embed="rId1"/>
          <a:srcRect l="6784" t="0" r="9156" b="0"/>
          <a:stretch/>
        </p:blipFill>
        <p:spPr>
          <a:xfrm>
            <a:off x="4594320" y="1305000"/>
            <a:ext cx="4608360" cy="532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lonely_penguin.jpg"/>
          <p:cNvPicPr/>
          <p:nvPr/>
        </p:nvPicPr>
        <p:blipFill>
          <a:blip r:embed="rId2"/>
          <a:srcRect l="17289" t="35748" r="14174" b="0"/>
          <a:stretch/>
        </p:blipFill>
        <p:spPr>
          <a:xfrm>
            <a:off x="331920" y="1327320"/>
            <a:ext cx="42624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49000" y="18720"/>
            <a:ext cx="8042040" cy="73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in the summ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9" descr="ENERGY GAINS"/>
          <p:cNvPicPr/>
          <p:nvPr/>
        </p:nvPicPr>
        <p:blipFill>
          <a:blip r:embed="rId1"/>
          <a:srcRect l="0" t="322" r="0" b="43"/>
          <a:stretch/>
        </p:blipFill>
        <p:spPr>
          <a:xfrm>
            <a:off x="1600200" y="762120"/>
            <a:ext cx="5079960" cy="4389480"/>
          </a:xfrm>
          <a:prstGeom prst="rect">
            <a:avLst/>
          </a:prstGeom>
          <a:ln w="0">
            <a:noFill/>
          </a:ln>
        </p:spPr>
      </p:pic>
      <p:sp>
        <p:nvSpPr>
          <p:cNvPr id="84" name="WordArt 8"/>
          <p:cNvSpPr txBox="1"/>
          <p:nvPr/>
        </p:nvSpPr>
        <p:spPr>
          <a:xfrm rot="19949400">
            <a:off x="87120" y="2790360"/>
            <a:ext cx="188424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Radiation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6058080" y="1417680"/>
            <a:ext cx="22730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Convection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86" name="WordArt 12"/>
          <p:cNvSpPr txBox="1"/>
          <p:nvPr/>
        </p:nvSpPr>
        <p:spPr>
          <a:xfrm rot="19941600">
            <a:off x="3123720" y="5376600"/>
            <a:ext cx="199548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Conduc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35000" y="3975120"/>
            <a:ext cx="146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8de2"/>
                </a:solidFill>
                <a:latin typeface="Calibri"/>
              </a:rPr>
              <a:t>Now where is the heat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680160" y="2112840"/>
            <a:ext cx="225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the summer, it’s HOT!  Heat transfers into our hous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 need to slow down heat transfe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600200"/>
            <a:ext cx="804204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Keep heat out in the summ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Keep heat inside in the wint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Calibri"/>
              </a:rPr>
              <a:t>Use less energy to heat and cool our ho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04400" y="3218040"/>
            <a:ext cx="536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words, we need to stop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happe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2"/>
          <p:cNvSpPr txBox="1"/>
          <p:nvPr/>
        </p:nvSpPr>
        <p:spPr>
          <a:xfrm rot="1840200">
            <a:off x="5559480" y="4674960"/>
            <a:ext cx="231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Conduc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93" name="WordArt 8"/>
          <p:cNvSpPr txBox="1"/>
          <p:nvPr/>
        </p:nvSpPr>
        <p:spPr>
          <a:xfrm rot="19949400">
            <a:off x="1368360" y="4603320"/>
            <a:ext cx="21891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Radiation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94" name="WordArt 9"/>
          <p:cNvSpPr txBox="1"/>
          <p:nvPr/>
        </p:nvSpPr>
        <p:spPr>
          <a:xfrm>
            <a:off x="3249720" y="4975200"/>
            <a:ext cx="24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Convection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serving energy is the key to help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Content Placeholder 8" descr="lonely penguin.jpg"/>
          <p:cNvPicPr/>
          <p:nvPr/>
        </p:nvPicPr>
        <p:blipFill>
          <a:blip r:embed="rId1"/>
          <a:srcRect l="0" t="9159" r="0" b="9159"/>
          <a:stretch/>
        </p:blipFill>
        <p:spPr>
          <a:xfrm>
            <a:off x="549360" y="172728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9" descr=""/>
          <p:cNvPicPr/>
          <p:nvPr/>
        </p:nvPicPr>
        <p:blipFill>
          <a:blip r:embed="rId2"/>
          <a:stretch/>
        </p:blipFill>
        <p:spPr>
          <a:xfrm>
            <a:off x="2955960" y="2176560"/>
            <a:ext cx="65484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re penguins all over the world, not just in Antarctic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rcRect l="353" t="6963" r="-114" b="6820"/>
          <a:stretch/>
        </p:blipFill>
        <p:spPr>
          <a:xfrm>
            <a:off x="1252440" y="1687680"/>
            <a:ext cx="6280200" cy="3213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0"/>
          <p:cNvSpPr/>
          <p:nvPr/>
        </p:nvSpPr>
        <p:spPr>
          <a:xfrm>
            <a:off x="1062720" y="535608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579b"/>
                </a:solidFill>
                <a:latin typeface="Calibri"/>
              </a:rPr>
              <a:t>The red dots indicate where penguins l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579b"/>
                </a:solidFill>
                <a:latin typeface="Calibri"/>
              </a:rPr>
              <a:t>There are penguins all over the southern hemisp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579b"/>
                </a:solidFill>
                <a:latin typeface="Calibri"/>
              </a:rPr>
              <a:t>Even in South Afric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ulders Beach is on the coast of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penguins-at-Boulders-Beach-Western-Cape-South-Africa-1-WL.jpg"/>
          <p:cNvPicPr/>
          <p:nvPr/>
        </p:nvPicPr>
        <p:blipFill>
          <a:blip r:embed="rId1"/>
          <a:srcRect l="2280" t="21373" r="18360" b="9670"/>
          <a:stretch/>
        </p:blipFill>
        <p:spPr>
          <a:xfrm>
            <a:off x="1481040" y="1444680"/>
            <a:ext cx="6383520" cy="3713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48560" y="5356080"/>
            <a:ext cx="7800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Here, the Boulders Beach penguins live.  As the climate across the gl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changes, these penguins are getting hot.  To keep from overheating,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cool off in the water.  But this survival technique has not worked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their fav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000" y="11160"/>
            <a:ext cx="804204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ulders Beach Pengui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license.icopyright.net/user/assetContent.act?id=2634640"/>
          <p:cNvPicPr/>
          <p:nvPr/>
        </p:nvPicPr>
        <p:blipFill>
          <a:blip r:embed="rId1"/>
          <a:srcRect l="4311" t="28056" r="21341" b="10497"/>
          <a:stretch/>
        </p:blipFill>
        <p:spPr>
          <a:xfrm>
            <a:off x="244440" y="771480"/>
            <a:ext cx="4086360" cy="2308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63600" y="309096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The sea gulls are stealing their egg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http://license.icopyright.net/user/assetContent.act?id=2634648"/>
          <p:cNvPicPr/>
          <p:nvPr/>
        </p:nvPicPr>
        <p:blipFill>
          <a:blip r:embed="rId2"/>
          <a:stretch/>
        </p:blipFill>
        <p:spPr>
          <a:xfrm>
            <a:off x="244440" y="3778200"/>
            <a:ext cx="3997440" cy="2798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6"/>
          <p:cNvSpPr/>
          <p:nvPr/>
        </p:nvSpPr>
        <p:spPr>
          <a:xfrm>
            <a:off x="4929120" y="1035000"/>
            <a:ext cx="366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So the park rangers have built the penguins little houses to protect their eggs AND to help keep them coo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license.icopyright.net/user/assetContent.act?id=2634638"/>
          <p:cNvPicPr/>
          <p:nvPr/>
        </p:nvPicPr>
        <p:blipFill>
          <a:blip r:embed="rId3"/>
          <a:srcRect l="0" t="26847" r="21502" b="0"/>
          <a:stretch/>
        </p:blipFill>
        <p:spPr>
          <a:xfrm>
            <a:off x="5992920" y="2568600"/>
            <a:ext cx="2917800" cy="3608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8"/>
          <p:cNvSpPr/>
          <p:nvPr/>
        </p:nvSpPr>
        <p:spPr>
          <a:xfrm>
            <a:off x="5207760" y="6272280"/>
            <a:ext cx="31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579b"/>
                </a:solidFill>
                <a:latin typeface="Calibri"/>
              </a:rPr>
              <a:t>This is helping them surv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14480"/>
            <a:ext cx="8042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mate change is causing penguins in Antarctica to become endangered by eliminating available habitat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edu_penguin.jpg"/>
          <p:cNvPicPr/>
          <p:nvPr/>
        </p:nvPicPr>
        <p:blipFill>
          <a:blip r:embed="rId1"/>
          <a:srcRect l="7104" t="260" r="0" b="8315"/>
          <a:stretch/>
        </p:blipFill>
        <p:spPr>
          <a:xfrm>
            <a:off x="1549440" y="1635120"/>
            <a:ext cx="58467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Ten-Signs-of-Global-Warming-global-warming-prevention-33281199-3600-2400.jpg"/>
          <p:cNvPicPr/>
          <p:nvPr/>
        </p:nvPicPr>
        <p:blipFill>
          <a:blip r:embed="rId1"/>
          <a:srcRect l="443" t="-13960" r="-439" b="14883"/>
          <a:stretch/>
        </p:blipFill>
        <p:spPr>
          <a:xfrm>
            <a:off x="39600" y="-1063800"/>
            <a:ext cx="9104400" cy="792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bad is climate change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e we to bla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5" descr="global warmin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how can we help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C:\Documents and Settings\Chris.VOSTRO200\My Documents\Dropbox\ETK\Kits\Save the Penguins\National Geographic Cover March 2009 small.jpg"/>
          <p:cNvPicPr/>
          <p:nvPr/>
        </p:nvPicPr>
        <p:blipFill>
          <a:blip r:embed="rId1"/>
          <a:stretch/>
        </p:blipFill>
        <p:spPr>
          <a:xfrm>
            <a:off x="2550960" y="1444680"/>
            <a:ext cx="3570480" cy="522612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6556320" y="1906560"/>
            <a:ext cx="203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starters, we can conserve energy so we don’t use as many fossil fuels in power pla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52280" y="1906560"/>
            <a:ext cx="203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n we do at home to help the penguins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can we conserve energy at hom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ouse%20ENERGY%20LOSSES"/>
          <p:cNvPicPr/>
          <p:nvPr/>
        </p:nvPicPr>
        <p:blipFill>
          <a:blip r:embed="rId1"/>
          <a:srcRect l="0" t="40" r="0" b="1981"/>
          <a:stretch/>
        </p:blipFill>
        <p:spPr>
          <a:xfrm>
            <a:off x="2135160" y="1432080"/>
            <a:ext cx="5127480" cy="4356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210960" y="1917720"/>
            <a:ext cx="1713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a1dc"/>
                </a:solidFill>
                <a:latin typeface="Calibri"/>
              </a:rPr>
              <a:t>What do you think the arrows repres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7286760" y="3705120"/>
            <a:ext cx="173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8de2"/>
                </a:solidFill>
                <a:latin typeface="Calibri"/>
              </a:rPr>
              <a:t>Where is the heat go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6881760" y="5678640"/>
            <a:ext cx="226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ime of year do you think this 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8"/>
          <p:cNvSpPr txBox="1"/>
          <p:nvPr/>
        </p:nvSpPr>
        <p:spPr>
          <a:xfrm rot="19949400">
            <a:off x="-9000" y="3973320"/>
            <a:ext cx="218916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Radiation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80" name="WordArt 12"/>
          <p:cNvSpPr txBox="1"/>
          <p:nvPr/>
        </p:nvSpPr>
        <p:spPr>
          <a:xfrm rot="19941600">
            <a:off x="3086280" y="5746680"/>
            <a:ext cx="2311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Conduction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  <p:sp>
        <p:nvSpPr>
          <p:cNvPr id="81" name="WordArt 9"/>
          <p:cNvSpPr txBox="1"/>
          <p:nvPr/>
        </p:nvSpPr>
        <p:spPr>
          <a:xfrm>
            <a:off x="6364440" y="2365200"/>
            <a:ext cx="2485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cc99">
                    <a:alpha val="50000"/>
                  </a:srgbClr>
                </a:solidFill>
                <a:effectLst>
                  <a:outerShdw dist="40186" dir="1096358" blurRad="0" rotWithShape="0">
                    <a:srgbClr val="9999ff">
                      <a:alpha val="75000"/>
                    </a:srgbClr>
                  </a:outerShdw>
                </a:effectLst>
                <a:latin typeface="Batik Regular"/>
              </a:rPr>
              <a:t>Convection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cc99">
                  <a:alpha val="50000"/>
                </a:srgbClr>
              </a:solidFill>
              <a:effectLst>
                <a:outerShdw dist="40186" dir="1096358" blurRad="0" rotWithShape="0">
                  <a:srgbClr val="9999ff">
                    <a:alpha val="75000"/>
                  </a:srgbClr>
                </a:outerShdw>
              </a:effectLst>
              <a:latin typeface="Batik Regular"/>
              <a:ea typeface="Batik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1T18:25:32Z</dcterms:created>
  <dc:creator>Chris</dc:creator>
  <dc:description/>
  <dc:language>en-US</dc:language>
  <cp:lastModifiedBy>Support</cp:lastModifiedBy>
  <dcterms:modified xsi:type="dcterms:W3CDTF">2017-01-27T20:41:34Z</dcterms:modified>
  <cp:revision>1</cp:revision>
  <dc:subject/>
  <dc:title>Engineers, what is wrong here?</dc:title>
</cp:coreProperties>
</file>